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C5A41-A94E-4286-A5D1-086AA98BF0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27F42-A623-4E0E-BE3C-2634F1AEC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CEEE4-6A49-43AA-AD39-A5427B6B24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706-F9E3-4898-9A66-E603DEE6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D67-B9D8-4637-825D-337A8E32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946-ACC3-43AC-9402-9D1B3C79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2F5-4671-4A5C-8464-B5C2BE58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8E9-7558-41E6-BDDD-3B2D0841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7BF-CDF7-41C9-A009-CB7B9EEA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5B8-D716-4A0E-BF8C-8AEDB26B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2ED-B6D6-48F3-A3D6-0B5E7090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93C-B916-4FDC-84DA-F8C0A246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216-184D-4731-9160-0E91F0CD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11A-6FF7-417C-9ED7-1F728D0C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02C-7A7A-42F6-9849-18E12A6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A7C88-E0C8-4D2A-9ECF-7812E0212A6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EBD59-86C0-4CD9-BD58-CE7D0E0BDC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pr.org/templates/story/story.php?storyId=88466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to Interest Grou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11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31-33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“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li Lilly Bandit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1938240" y="1417680"/>
            <a:ext cx="5465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est Groups: Good or Evi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nterest Group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n organized group of individuals that seeks to influence public policy. Also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obb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62360" y="4002120"/>
            <a:ext cx="3105000" cy="65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3201840" y="3268800"/>
            <a:ext cx="2441880" cy="243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2276640" y="3133800"/>
            <a:ext cx="4595760" cy="257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5"/>
          <a:stretch/>
        </p:blipFill>
        <p:spPr>
          <a:xfrm>
            <a:off x="2620800" y="2446200"/>
            <a:ext cx="401004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est Groups: Good or Evi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exis de Tocquevil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4691160" y="1177920"/>
            <a:ext cx="399564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le 5"/>
          <p:cNvSpPr/>
          <p:nvPr/>
        </p:nvSpPr>
        <p:spPr>
          <a:xfrm>
            <a:off x="457200" y="2405160"/>
            <a:ext cx="4970520" cy="230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2900" spc="-1" strike="noStrike">
                <a:solidFill>
                  <a:srgbClr val="ffffff"/>
                </a:solidFill>
                <a:latin typeface="Calibri"/>
              </a:rPr>
              <a:t>Americans of all ages, all conditions, and all dispositions constantly form associations.”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est Groups: Good or Evi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25760" y="1600200"/>
            <a:ext cx="46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erences between factions were inevit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ctions would be controlled through size and diversity of nation as well as through government stru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868560" cy="3585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457200" y="5003640"/>
            <a:ext cx="3868560" cy="1099080"/>
          </a:xfrm>
          <a:prstGeom prst="rect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Liberty is to faction what air is to fire”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est Groups: Good or Evi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erican Criticisms of Interest Group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do not offer equal representation to all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% believe lobbyists bribe Congres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dislike interest groups as a whole, but we like those who represent our view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29:01Z</dcterms:created>
  <dc:creator>Katie Madison</dc:creator>
  <dc:description/>
  <dc:language>en-US</dc:language>
  <cp:lastModifiedBy>FAdmin</cp:lastModifiedBy>
  <dcterms:modified xsi:type="dcterms:W3CDTF">2012-01-02T14:56:00Z</dcterms:modified>
  <cp:revision>6</cp:revision>
  <dc:subject/>
  <dc:title>Introduction to Interest Groups</dc:title>
</cp:coreProperties>
</file>